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5F8-B087-4A5E-B0B7-B9F8829C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7CC-B7BB-4DED-9D48-9B94E428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C69-7B7B-4F64-8DE3-547D2962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C00-C913-4A64-8071-A7A9D1C2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CDBD-36D7-4377-8BBE-A6E7FB4F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C2A-3173-4D79-B06B-06A3EA27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58EF-FD7A-4176-B3AE-3F9AAD8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F7C2-EE6A-4AF0-AAA7-95F2CCA3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AEFB-C1EE-469F-BB48-7061ED4D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2B4C-C0C5-4A1F-B95B-05339E6F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DE3D-52D4-45ED-9A85-00FD6013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CCD-9C4A-4CAB-9CD7-95FA6BD3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7B3-46FA-4427-9E02-203D300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4BBE-F3FF-4599-A598-D8872D7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3225-CEF7-49E8-BE2A-D83B26D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DFB1-39C1-42F1-86A6-35FE2B3C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E0EB-9949-45B5-BD70-9BD4D6C6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DAAF-9260-4F91-AD4E-38746FE2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DEAD-033A-4D87-8C5D-144FABD5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8C02-5C72-4DBB-927D-1F81F4C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63BB-0281-4E24-A692-9E62C55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2E94-5A44-4982-ACDB-137FC625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EBE-6A6B-464F-A23C-61B1F550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F045-314C-45ED-A24F-2A559DD6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A4B5-D62F-4CDC-B68C-D19A823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F149-C201-4639-84F8-AD10CF6E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A455-B46B-4B4B-A198-913EC2F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A7D6-4487-4D01-A3E3-5132B310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52D4-F148-43D2-B35E-BDA56DB0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E49C-4E8F-42BF-B6C2-E62B8DEF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D096-DDDB-45A9-9EF0-B0A40BBA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C5C5-05F5-4478-BC6F-BD9965CD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41D8-D518-4E59-B71C-E61379E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4E8-ADC1-445F-8006-0E23F342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7E70-52AC-47F1-BC4A-B3756C6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30A9B-C5BF-44D4-8AF7-0718295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78AB-18F5-483F-B061-E8A26F84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6A49-514E-45F6-82EF-E6FD4A3A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91AC-CF9F-4098-AAB2-27BD657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115D-6CB3-4372-82C0-78E4DAA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DB93-4E8D-472B-8AFF-6BF4387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7365-ACF7-47EC-BD9B-C7F670E5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3FBE-85C9-4A18-B5C3-69ED31FC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AB6F-4EA5-4F6E-9E4C-35B71DA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788-B8B4-498B-91EC-3A6C261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4B7A-2DCF-4A57-B9AF-62AB4545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0168D-D1AE-4AAA-B66A-2B84BA50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7A8A-689F-444F-942D-E3CA4F0D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89C87-4B27-4EB4-B9EB-BA7574C1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AE95-C841-4B90-A033-3FC5E600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52FB-ACD9-4810-B0D5-96083D90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2CA7-572C-4A73-B278-C67530C4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8681-5D5D-4508-9600-ACEE589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9543-A068-42DF-977B-5DB22CC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6338B-BA59-4702-BAFC-2BA4007D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873-877F-4E30-B33D-5F652295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F695C-551F-4BBB-A5A3-D2AA6596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289D-9FC9-49A5-9AC0-9D780455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B1E83-5447-4B97-A7A2-BC28AE0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CD670-FFDA-493C-843B-E8FE17E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4A5A-29DA-4E29-BEA5-F19061F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2D2CE-DBD3-40EB-AF38-F0BEED68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167D-B1B0-448B-BE0A-7283E63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6E831-15CB-4FF0-A0BB-B96E4EE1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9631-878F-4DEA-8BDB-BAEBA2A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B7C5F-2770-47A5-A4D4-5C077BE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CC6-D4D4-4146-B62E-0C3F8CA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9730-B9D1-4C2D-BD40-52707435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984F9-DF80-440B-A883-16A875B0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0E9FB-417A-4011-909F-C30E7922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ABB0-0566-45B6-9611-F69E94B5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2F09-0FAE-45AD-B888-667B6C9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4EAFB-E7A2-4ADA-874D-F3EE6B1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5573-F5AE-4A1A-8A45-82C887E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A9519-F372-4653-9C7E-EC688034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26FE-3C79-480F-B640-EF7F8D8D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E000B-BF58-4BD1-AF3B-F585A58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405-B6D1-4729-BA91-9F00A168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2F967-02F9-4628-A91F-707E438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A443-7136-49D4-80B4-C7BEE64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EA48-2A47-432B-8B77-69BE4813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812D-F83C-43CA-844F-CB08462D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5E2CB-7116-42DE-8CB2-57449026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A35C-308E-4F74-96C4-A3C3DDB7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CCA62-E82D-492A-9FC4-75D60B09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ED5B-E66F-40E6-AA32-DE77A144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5B9B3-4514-402C-A834-8D8483AE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C5A7-4804-4750-BBF1-0954A00C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8B2-A2C2-460D-A56E-C2905EE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1972F-4868-4741-958D-AA1F191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08202-1C0A-499B-9339-15B4EA3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DD018-A3F5-4BE2-90C2-31BC29D6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78648-A198-4336-9AB2-B570216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A5F2-2F1C-4F77-9DCD-31572490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BE34-D553-4FCE-BB3C-88C48EB4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F6234-3CC8-40E8-AFEC-621CFCF5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6A55-2068-4AF6-8726-09117CE6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B3F-E489-46D6-8E27-71712D17DDE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4110-2721-4B42-8FCB-34E0D49EA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311-C142-4A38-BA53-E3213E4C0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1D03-EB6F-4335-B1B4-3FDE3863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E8AF-7632-4339-9194-8A602310F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1CB5-D6FC-407A-BA9E-A407E9F4130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211B-235E-4321-B19E-CE62C0E0D42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mailto:rfardad@highline.edu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22440"/>
            <a:ext cx="8607600" cy="16272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2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ultiple-choice questions that focus on deep conceptual understandings and finding sticky points presented in class with the follow procedur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ost a ques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ive students about one minute to select a solu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et the class to signal their choices at onc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ive the students a chance to discuss their choice in a group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ake a second vot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irect them.  If needed repeat steps 4 and 5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 version of a group quiz (Read/Confer/Write) in three step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AD and develop strategies of how to solve (no writing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FERENCE and discuss the strategies in groups of 3 or 4 (no writing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up the solu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ad ahead and as admission ticket to the next class complete the following and turn-i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a sentence or two describe the big idea(s) of the sec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easiest part(s) and doesn’t need further discuss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problem or idea needs more focu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ing the web base programs for HW such as WebAssig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dividual/ Group projects that get feedbacks before the due date (just like an English paper!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utline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ugh draft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nal p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Grading a traditional test using the following steps to make this assessment a learning opportunity.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rade the test and mark each question with the following.  No partial credit or feedback needed at this time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entury Gothic"/>
              </a:rPr>
              <a:t>√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(essentially correct-full credit);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entury Gothic"/>
              </a:rPr>
              <a:t>?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 (some correct reasoning but not complete or a few key errors-half credit);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 (significant errors-no credit). 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turn to students and inform them of the two-step rewrite for extra credit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omment on the original version on which they wrote error analysis, thoughts and questions in red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rade the very carefully written redo of the test. 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f you are teaching Math 81/91 pleas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236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 a record of CATs you use each quarter (type and count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36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ward any concept test questions you create to </a:t>
            </a: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rfardad@highline.edu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r post on wik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36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hare your experiences with everyone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481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373392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1:28:52Z</dcterms:created>
  <dc:creator>Administrator</dc:creator>
  <dc:description/>
  <dc:language>en-US</dc:language>
  <cp:lastModifiedBy>hburn</cp:lastModifiedBy>
  <dcterms:modified xsi:type="dcterms:W3CDTF">2010-09-28T22:46:06Z</dcterms:modified>
  <cp:revision>7</cp:revision>
  <dc:subject/>
  <dc:title>CATs</dc:title>
</cp:coreProperties>
</file>